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1D8-909D-4712-9D7C-1AB44DF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BE2-F68A-486D-A441-4FBC3BC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ED3-F09C-4B75-8675-39B8AF0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871-3DCA-4AF4-9322-67F251FD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7B0-59B2-4E3E-92E2-9C38115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2EC-F27E-4B81-BE75-D6F28DDE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3A1-F942-4C15-B06A-326B1C54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102-0F11-4024-94C5-3532C18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14E-F3EA-4599-988F-1E9BCEFE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149-843D-4268-86D1-632EB24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6B4-1B32-4B76-A448-FCF0D70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FE4-575C-4AFE-B3BE-22E855BB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1A7-90B1-4232-A576-C75DEE39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e Hist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one histology 2"/>
          <p:cNvPicPr/>
          <p:nvPr/>
        </p:nvPicPr>
        <p:blipFill>
          <a:blip r:embed="rId1"/>
          <a:stretch/>
        </p:blipFill>
        <p:spPr>
          <a:xfrm>
            <a:off x="2743200" y="38862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on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cy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Mature 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b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one-form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one-destroy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ne is a living tis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ic Structure of a Compact Bo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n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versian)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concentric ring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mel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f bone matrix running lengthwise.  Very st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one model"/>
          <p:cNvPicPr/>
          <p:nvPr/>
        </p:nvPicPr>
        <p:blipFill>
          <a:blip r:embed="rId1"/>
          <a:stretch/>
        </p:blipFill>
        <p:spPr>
          <a:xfrm>
            <a:off x="2133720" y="318600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H="1">
            <a:off x="4647960" y="2819520"/>
            <a:ext cx="33526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un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tiny cavities inside the lamellae rings.  This is where the osteocytes a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bone histology"/>
          <p:cNvPicPr/>
          <p:nvPr/>
        </p:nvPicPr>
        <p:blipFill>
          <a:blip r:embed="rId1"/>
          <a:stretch/>
        </p:blipFill>
        <p:spPr>
          <a:xfrm>
            <a:off x="2133720" y="1371600"/>
            <a:ext cx="5695920" cy="527688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>
            <a:off x="1523880" y="2362320"/>
            <a:ext cx="198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canal carries blood vessels and nerves to all areas of the b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steon"/>
          <p:cNvPicPr/>
          <p:nvPr/>
        </p:nvPicPr>
        <p:blipFill>
          <a:blip r:embed="rId1"/>
          <a:stretch/>
        </p:blipFill>
        <p:spPr>
          <a:xfrm>
            <a:off x="2362320" y="2666880"/>
            <a:ext cx="3367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ne cells get nourishment and contact the body outside the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lic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an” ah-lik’-u-li):  tiny canals that radiate outward from the central canals to each lacuna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kmann’s Can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canals that run at right angles to the central canals and perforate the shaft of the b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long bone histology"/>
          <p:cNvPicPr/>
          <p:nvPr/>
        </p:nvPicPr>
        <p:blipFill>
          <a:blip r:embed="rId1"/>
          <a:stretch/>
        </p:blipFill>
        <p:spPr>
          <a:xfrm>
            <a:off x="380880" y="79200"/>
            <a:ext cx="8001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de, what about spongy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becu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Loosely organized lamellae rings with osteocytes (no central can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lic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the osteoc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like struts along lines of stress in bone to offer strength, yet light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ig muscles"/>
          <p:cNvPicPr/>
          <p:nvPr/>
        </p:nvPicPr>
        <p:blipFill>
          <a:blip r:embed="rId1"/>
          <a:stretch/>
        </p:blipFill>
        <p:spPr>
          <a:xfrm>
            <a:off x="5334120" y="4876920"/>
            <a:ext cx="138744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lying buttress"/>
          <p:cNvPicPr/>
          <p:nvPr/>
        </p:nvPicPr>
        <p:blipFill>
          <a:blip r:embed="rId2"/>
          <a:stretch/>
        </p:blipFill>
        <p:spPr>
          <a:xfrm>
            <a:off x="2209680" y="4876920"/>
            <a:ext cx="178272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224120" y="50655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V="1">
            <a:off x="6172200" y="5257800"/>
            <a:ext cx="10666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162920" y="5029200"/>
            <a:ext cx="761760" cy="457200"/>
          </a:xfrm>
          <a:prstGeom prst="ellipse">
            <a:avLst/>
          </a:prstGeom>
          <a:solidFill>
            <a:srgbClr val="bbe0e3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4:19:46Z</dcterms:created>
  <dc:creator>Jeff Burghardt</dc:creator>
  <dc:description/>
  <dc:language>en-US</dc:language>
  <cp:lastModifiedBy>Administrator</cp:lastModifiedBy>
  <dcterms:modified xsi:type="dcterms:W3CDTF">2010-07-19T12:54:04Z</dcterms:modified>
  <cp:revision>6</cp:revision>
  <dc:subject/>
  <dc:title>Bone Histology</dc:title>
</cp:coreProperties>
</file>